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259-1F4A-43D0-88D3-505826E9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988-D8D8-45B1-9CD4-F9263C22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3C7-FD31-4846-8868-3B7D0FA2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2F4-DB36-4FDE-A8C7-FC9A0968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614-215B-412B-8C8C-5C9B3FBA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7F7-CB29-4BD4-8839-5381F65B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A3E-E0C5-42B2-A22C-888BDE2B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B8F-ADD8-4ECA-9941-46850880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7885-4634-4333-9295-7B591E31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BE2-2090-4B05-B39A-68A70E82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4E8-D8B1-404C-836F-F292D42E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726-E538-4132-B796-823FE6AC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21CD-3913-4B2E-87F2-E90B8FBA01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ortirkutsk.ru/board/detail.php?siteid=6313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6600ff"/>
                </a:solidFill>
                <a:uFillTx/>
                <a:latin typeface="Calibri"/>
              </a:rPr>
              <a:t>Тест по математике в 4 класс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одготовка к мониторинг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. В легковом автомобиле помещается 5 человек. Какое наименьшее число автомобилей потребуется, чтобы перевезти 37 человек?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004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. Каким действием можно проверить правильность вычисления: 25 ∙ 62 = 1 550? Выбери подходящее выражение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004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550-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550-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1550: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1550+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. Не вычисляя, укажи правую часть равенст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 42 + 63) : 7 = …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42 : 7 + 6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42 : 7 + 63 : 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42 + 63 : 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42 : 7 + 63 : 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. Мальчики бежали на скорость. Кто из ребят бегает быстрее всех? Если Миша пробежал отрезок пути  за 19 сек., Женя – 17 сек., Юра – 21 сек., Петя – 22 се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Ми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Жен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Ю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Пет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2. Отметь верное равенство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004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350 кг=35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350кг=3т50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50кг=3500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350кг=3ц50к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3. За какое время лыжник пройдёт 18 км, если за 1 час он проходит 6 км? Выбери ответ на вопрос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004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3 к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08 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12 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3 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4. В магазине купили 600 г конфет. Четвёртую часть положили в вазу к чаю. Сколько граммов конфет в вазе? Отметь нужное числ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0004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50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40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800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2400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5 .  Вычисли значение выражения 900 – 400 : 5 + 3: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8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8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8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6 .  Вычисли 518 х 56: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6 1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6 7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27 1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29 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7 .  Укажите число, которое является корнем (решением) уравнения 50-Х=100:5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004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2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струкция для учащих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ите все зад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ы запишите в Бланк ответов, обводя кружком букву от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я на слайде  вы сможете видеть не более 2 минут, о выполнении задания «сигнальте» учите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решении заданий  пользуйтесь чернови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8 . Укажите решение задачи: С одного опытного участка школьники собрали 4 мешка картофеля, по 50 кг в каждом, а со второго участка – на 110 кг больше, чем с первого. Сколько килограммов картофеля школьники собрали с двух участков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004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1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5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 . Рабочий за 8 часов  изготовил 640 деталей, а его ученик за это же время изготовил 480 деталей. На сколько деталей в час ученик изготавливает меньше, чем рабочий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на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на 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на 2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на 1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0 . Какова площадь  прямоугольника со сторонами 6 и 9 см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004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5 с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54 с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54 с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30 с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юч тес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1. 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2. 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3. 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4. 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5. 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6. 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7. 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8. 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9. 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0. 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Картинка 81 из 152072"/>
          <p:cNvPicPr/>
          <p:nvPr/>
        </p:nvPicPr>
        <p:blipFill>
          <a:blip r:embed="rId1"/>
          <a:stretch/>
        </p:blipFill>
        <p:spPr>
          <a:xfrm>
            <a:off x="6262560" y="4429080"/>
            <a:ext cx="21672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спользуемая литература и интернет - ресур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35720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анчурина Р.Г. Мониторинг качества знаний в начальной школе. Математика. 3-4 клас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артинка -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ortirkutsk.ru/board/detail.php?siteid=63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Отметь число, записанное суммой разрядных слагаемых: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50 000 + 4 000 + 200 + 3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5 423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54 203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54 230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504 20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Выбери число, у которого в разряде десятков класса тысяч стоит цифра 9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975 2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8 395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94 213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352 191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Запиши числа 401, 4 010, 4 001, 104, 4 101, 4 100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орядке возрастани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04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401, 4010, 4001, 4101, 4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4100, 4101, 4001, 4010, 4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401, 4001, 4010, 4100, 41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401, 4010, 4001, 4100, 41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Найди значение выражения 9 203 – 5 796, выбери правильный ответ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34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34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44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35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Найди произведение 480 и 60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004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4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5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28 8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Чему равно уменьшаемое, если вычитаемое 1500, а разность равна 300? Выбери правильный ответ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004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18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450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Какой знак нужно поставить вместо*, чтобы равенство 10 * 0 = 0 было верным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2:26:13Z</dcterms:created>
  <dc:creator>Танюша</dc:creator>
  <dc:description/>
  <dc:language>en-US</dc:language>
  <cp:lastModifiedBy>User 1</cp:lastModifiedBy>
  <dcterms:modified xsi:type="dcterms:W3CDTF">2014-06-09T16:49:27Z</dcterms:modified>
  <cp:revision>18</cp:revision>
  <dc:subject/>
  <dc:title>Муниципальное бюджетное образовательное учреждение  средняя общеобразовательная школа №2 пгт. Дедовичи Псковской области</dc:title>
</cp:coreProperties>
</file>